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B17A-3F81-4D5D-8063-18F2B065FBA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第一張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利用單元頁的圖片，引入學習重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B5E-1CD0-41DD-A7F9-24B32078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4A8-C274-4A1C-8AAA-D10F23D8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40C-1A40-418A-A7F4-498D4E65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80B-3FA8-41C1-827B-33C8093A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944-EC08-4C80-8805-265A0EF9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F11-5B1D-4C94-9ED3-4B090DC6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3C9-E76B-4DC9-946F-0A96100F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9AD-0453-491D-84D0-353428E3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949-4E34-4C99-BAE7-EFE2133D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364-0CFF-4852-9848-65780C51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B1F-FDF1-4E32-8ABD-0EA771A9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1FC-C2B9-4D96-8148-96EC92E0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E2F4-CD7D-4DBB-A1D0-7B27A6EAB498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圖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115920"/>
            <a:ext cx="17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單元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69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第一課：說明對象的特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7"/>
          <p:cNvSpPr/>
          <p:nvPr/>
        </p:nvSpPr>
        <p:spPr>
          <a:xfrm>
            <a:off x="374760" y="1844640"/>
            <a:ext cx="4773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99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掌握事物的外在特徵</a:t>
            </a:r>
            <a:r>
              <a:rPr b="0" lang="zh-TW" sz="2800" spc="-1" strike="noStrike">
                <a:solidFill>
                  <a:srgbClr val="c00000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7"/>
          <p:cNvSpPr/>
          <p:nvPr/>
        </p:nvSpPr>
        <p:spPr>
          <a:xfrm>
            <a:off x="369720" y="2494080"/>
            <a:ext cx="4778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99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歸納事物的內在特質</a:t>
            </a:r>
            <a:r>
              <a:rPr b="0" lang="zh-TW" sz="2800" spc="-1" strike="noStrike">
                <a:solidFill>
                  <a:srgbClr val="c00000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7"/>
          <p:cNvSpPr/>
          <p:nvPr/>
        </p:nvSpPr>
        <p:spPr>
          <a:xfrm>
            <a:off x="0" y="4076640"/>
            <a:ext cx="363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99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舉例說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429000"/>
            <a:ext cx="5256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課：說明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7"/>
          <p:cNvSpPr/>
          <p:nvPr/>
        </p:nvSpPr>
        <p:spPr>
          <a:xfrm>
            <a:off x="0" y="4797360"/>
            <a:ext cx="363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99"/>
                </a:solidFill>
                <a:latin typeface="Wingdings"/>
                <a:ea typeface="Wingdings"/>
              </a:rPr>
              <a:t>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數據說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四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7840" y="1028880"/>
            <a:ext cx="31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說明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148428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舉例說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4360" y="3141720"/>
          <a:ext cx="8207280" cy="2603520"/>
        </p:xfrm>
        <a:graphic>
          <a:graphicData uri="http://schemas.openxmlformats.org/drawingml/2006/table">
            <a:tbl>
              <a:tblPr/>
              <a:tblGrid>
                <a:gridCol w="934920"/>
                <a:gridCol w="4176720"/>
                <a:gridCol w="309564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類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              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           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注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事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b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引用社會時事夥日常生活的事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b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宜選用生活中常見的、典型的事情作為說明的例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b9f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設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2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假設一些沒有真實發生而合乎情理的例子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2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例子切勿過於誇張，否則會影響文章的可信度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2ac"/>
                    </a:solidFill>
                  </a:tcPr>
                </a:tc>
              </a:tr>
              <a:tr h="63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史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列舉歷史人物事跡或歷史事件作為例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要尊重歷史的真實性，不可隨意進行纂改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95280" y="21337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　　舉例說明，是指舉出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具體的事例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來說明事物，讓讀者容易理解。所列舉的例子主要分為：事例、設例和史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133720"/>
            <a:ext cx="1295280" cy="358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995280" y="1773360"/>
            <a:ext cx="57636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1052640"/>
            <a:ext cx="40338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文章中所舉的例子必須有真實感，能讓人信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6960" y="6304680"/>
            <a:ext cx="491040" cy="397080"/>
          </a:xfrm>
          <a:prstGeom prst="flowChartAlternateProcess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280" y="177336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數據說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0666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說明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四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3213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　　數據說明，是指引用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實際數據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說明事物的狀況或事理，以加強內容的真確性和說服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2421000"/>
            <a:ext cx="44640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數據說明的資料可透過報章、網頁等途徑尋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87280" y="3284640"/>
            <a:ext cx="104004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19280" y="4005360"/>
            <a:ext cx="475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引用數據不宜過多，否則會令文章冗長乏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476360" y="2924280"/>
            <a:ext cx="21600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3213000"/>
            <a:ext cx="105120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492360" y="3645000"/>
            <a:ext cx="503280" cy="43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280" y="177336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數據說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0666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說明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四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1120" y="242100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</a:t>
            </a: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數據說明的適用範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2200" y="3247920"/>
            <a:ext cx="43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（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MS PMincho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MS PMincho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概括交代說明對象的情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43275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（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估計說明對象的發展情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1640" y="3429000"/>
            <a:ext cx="576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61080" y="2927520"/>
            <a:ext cx="40320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針對說明對象作籠統的概括，讓讀者對整體的概況有一個初步的理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11640" y="4508640"/>
            <a:ext cx="576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59280" y="4005360"/>
            <a:ext cx="403236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針對說明對象的現有情況作出估算，讓讀者能了解說明對象的發展情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2280" y="177336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數據說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0666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說明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四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1120" y="2421000"/>
            <a:ext cx="342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</a:t>
            </a: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搜集數據的方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15088" t="22600" r="19845" b="38951"/>
          <a:stretch/>
        </p:blipFill>
        <p:spPr>
          <a:xfrm>
            <a:off x="900000" y="2924280"/>
            <a:ext cx="6910560" cy="33130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843280" y="981000"/>
            <a:ext cx="547380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搜集得來的數據須經過對比核實後方能使用，以免數據失實，削弱文章的可信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773360"/>
            <a:ext cx="54007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2. </a:t>
            </a: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數據具有時效性，所以在收集數據時，要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可能收集最新的有效數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52280" y="162864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數據說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10666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說明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四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1120" y="2276640"/>
            <a:ext cx="342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3. </a:t>
            </a:r>
            <a:r>
              <a:rPr b="1" lang="zh-TW" sz="2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運用數據說明的方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6560" y="299736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　　寫作說明文時，所列舉的數據必須真實可靠、準確無誤。若有足夠時間搜集資料，應儘量舉出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精確的數據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，以增強文章的說服力；若搜集資料的時間有限，亦可舉出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大約範圍內的數據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0920" y="4581360"/>
            <a:ext cx="50403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Arial"/>
                <a:ea typeface="標楷體"/>
              </a:rPr>
              <a:t>常用的表述有：約為、大概、左右、若干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02160" y="3645000"/>
            <a:ext cx="104616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140000" y="4005360"/>
            <a:ext cx="431640" cy="57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6960" y="6304680"/>
            <a:ext cx="491040" cy="397080"/>
          </a:xfrm>
          <a:prstGeom prst="flowChartAlternateProcess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四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題目點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2027160"/>
            <a:ext cx="4572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範文題目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培養青少年的運動習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95640" y="2492280"/>
            <a:ext cx="129672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328464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6880" y="3645000"/>
            <a:ext cx="39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1.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找出關鍵字詞：運動習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1148760" y="416196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6880" y="46530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2.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根據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標楷體"/>
              </a:rPr>
              <a:t>寫作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重點聯想具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內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1844640"/>
            <a:ext cx="506520" cy="3745080"/>
          </a:xfrm>
          <a:custGeom>
            <a:avLst/>
            <a:gdLst>
              <a:gd name="textAreaLeft" fmla="*/ 323640 w 506520"/>
              <a:gd name="textAreaRight" fmla="*/ 506520 w 5065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5314"/>
                </a:lnTo>
                <a:cubicBezTo>
                  <a:pt x="10800" y="16214"/>
                  <a:pt x="5400" y="17114"/>
                  <a:pt x="0" y="17114"/>
                </a:cubicBezTo>
                <a:cubicBezTo>
                  <a:pt x="5400" y="17114"/>
                  <a:pt x="10800" y="18014"/>
                  <a:pt x="10800" y="1891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1628640"/>
            <a:ext cx="4176720" cy="31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說明重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標楷體"/>
              </a:rPr>
              <a:t>培養青少年運動習慣的好處？重要性？方法？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運用數據加以說明的內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標楷體"/>
              </a:rPr>
              <a:t>香港青少年運動的習慣？父母對培養青少年運動習慣的影響？社區運動設施的配備情況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運用例子加以說明的內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標楷體"/>
              </a:rPr>
              <a:t>造成青少年缺乏運動的原因？如何鼓勵學生多參加體育活動？政府應如何推廣體育活動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43120" y="1235160"/>
            <a:ext cx="22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配合內文Ｐ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四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題目點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031840"/>
            <a:ext cx="4572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範文題目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「笑」的好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2565360"/>
            <a:ext cx="2160360" cy="503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93720" y="32130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3573360"/>
            <a:ext cx="44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找出關鍵字詞：笑的好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1546200" y="40435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450864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根據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標楷體"/>
              </a:rPr>
              <a:t>寫作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重點聯想具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內容（請填充完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5600" y="1252440"/>
            <a:ext cx="22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配合內文Ｐ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137120" y="1197000"/>
            <a:ext cx="4003560" cy="4491000"/>
            <a:chOff x="4137120" y="1197000"/>
            <a:chExt cx="4003560" cy="4491000"/>
          </a:xfrm>
        </p:grpSpPr>
        <p:sp>
          <p:nvSpPr>
            <p:cNvPr id="234" name=""/>
            <p:cNvSpPr/>
            <p:nvPr/>
          </p:nvSpPr>
          <p:spPr>
            <a:xfrm>
              <a:off x="4137120" y="1197000"/>
              <a:ext cx="457200" cy="44910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17000 h 4491000"/>
                <a:gd name="textAreaBottom" fmla="*/ 4374000 h 449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4151"/>
                  </a:lnTo>
                  <a:cubicBezTo>
                    <a:pt x="10800" y="15051"/>
                    <a:pt x="5400" y="15951"/>
                    <a:pt x="0" y="15951"/>
                  </a:cubicBezTo>
                  <a:cubicBezTo>
                    <a:pt x="5400" y="15951"/>
                    <a:pt x="10800" y="16851"/>
                    <a:pt x="10800" y="1775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43280" y="2095560"/>
              <a:ext cx="338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Verdana"/>
                  <a:ea typeface="新細明體"/>
                </a:rPr>
                <a:t>概括說明「笑」的好處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88000" y="29242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88000" y="56610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40400" y="119700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Verdana"/>
                  <a:ea typeface="新細明體"/>
                </a:rPr>
                <a:t>說明重點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88000" y="19890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88000" y="39225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43280" y="3032280"/>
              <a:ext cx="338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Verdana"/>
                  <a:ea typeface="新細明體"/>
                </a:rPr>
                <a:t>運用例子說明「笑」的好處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56240" y="4422600"/>
              <a:ext cx="33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Verdana"/>
                  <a:ea typeface="新細明體"/>
                </a:rPr>
                <a:t>運用數據說明「笑」的好處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88000" y="43210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75040" y="52704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4365720"/>
            <a:ext cx="3241800" cy="1439640"/>
          </a:xfrm>
          <a:prstGeom prst="wedgeRoundRectCallout">
            <a:avLst>
              <a:gd name="adj1" fmla="val -10967"/>
              <a:gd name="adj2" fmla="val -4823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平安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421000"/>
            <a:ext cx="3241800" cy="1439640"/>
          </a:xfrm>
          <a:prstGeom prst="wedgeRoundRectCallout">
            <a:avLst>
              <a:gd name="adj1" fmla="val -32861"/>
              <a:gd name="adj2" fmla="val 455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一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萬花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066680"/>
            <a:ext cx="47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標楷體"/>
              </a:rPr>
              <a:t>課堂活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687680"/>
            <a:ext cx="8424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聆聽錄音，找出說明對象的特徵，掌握說明事物的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四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3284640"/>
            <a:ext cx="360720" cy="288720"/>
          </a:xfrm>
          <a:custGeom>
            <a:avLst/>
            <a:gdLst>
              <a:gd name="textAreaLeft" fmla="*/ 18720 w 360720"/>
              <a:gd name="textAreaRight" fmla="*/ 342000 w 360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8406"/>
                </a:moveTo>
                <a:lnTo>
                  <a:pt x="10914" y="8406"/>
                </a:lnTo>
                <a:lnTo>
                  <a:pt x="15335" y="3794"/>
                </a:lnTo>
                <a:lnTo>
                  <a:pt x="15335" y="17806"/>
                </a:lnTo>
                <a:lnTo>
                  <a:pt x="10914" y="13194"/>
                </a:lnTo>
                <a:lnTo>
                  <a:pt x="6483" y="13194"/>
                </a:lnTo>
                <a:close/>
              </a:path>
              <a:path fill="darken" w="26980" h="21600">
                <a:moveTo>
                  <a:pt x="16989" y="10800"/>
                </a:moveTo>
                <a:lnTo>
                  <a:pt x="20496" y="10800"/>
                </a:lnTo>
              </a:path>
              <a:path fill="darken" w="26980" h="21600">
                <a:moveTo>
                  <a:pt x="16989" y="8406"/>
                </a:moveTo>
                <a:lnTo>
                  <a:pt x="20496" y="5639"/>
                </a:lnTo>
              </a:path>
              <a:path fill="darken" w="26980" h="21600">
                <a:moveTo>
                  <a:pt x="16989" y="13194"/>
                </a:moveTo>
                <a:lnTo>
                  <a:pt x="20496" y="15961"/>
                </a:ln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5326200"/>
            <a:ext cx="360720" cy="288720"/>
          </a:xfrm>
          <a:custGeom>
            <a:avLst/>
            <a:gdLst>
              <a:gd name="textAreaLeft" fmla="*/ 18720 w 360720"/>
              <a:gd name="textAreaRight" fmla="*/ 342000 w 360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8406"/>
                </a:moveTo>
                <a:lnTo>
                  <a:pt x="10914" y="8406"/>
                </a:lnTo>
                <a:lnTo>
                  <a:pt x="15335" y="3794"/>
                </a:lnTo>
                <a:lnTo>
                  <a:pt x="15335" y="17806"/>
                </a:lnTo>
                <a:lnTo>
                  <a:pt x="10914" y="13194"/>
                </a:lnTo>
                <a:lnTo>
                  <a:pt x="6483" y="13194"/>
                </a:lnTo>
                <a:close/>
              </a:path>
              <a:path fill="darken" w="26980" h="21600">
                <a:moveTo>
                  <a:pt x="16989" y="10800"/>
                </a:moveTo>
                <a:lnTo>
                  <a:pt x="20496" y="10800"/>
                </a:lnTo>
              </a:path>
              <a:path fill="darken" w="26980" h="21600">
                <a:moveTo>
                  <a:pt x="16989" y="8406"/>
                </a:moveTo>
                <a:lnTo>
                  <a:pt x="20496" y="5639"/>
                </a:lnTo>
              </a:path>
              <a:path fill="darken" w="26980" h="21600">
                <a:moveTo>
                  <a:pt x="16989" y="13194"/>
                </a:moveTo>
                <a:lnTo>
                  <a:pt x="20496" y="15961"/>
                </a:ln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2781360"/>
            <a:ext cx="647640" cy="504720"/>
          </a:xfrm>
          <a:prstGeom prst="rightArrow">
            <a:avLst>
              <a:gd name="adj1" fmla="val 50000"/>
              <a:gd name="adj2" fmla="val 32079"/>
            </a:avLst>
          </a:prstGeom>
          <a:gradFill rotWithShape="0">
            <a:gsLst>
              <a:gs pos="0">
                <a:srgbClr val="99ff66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27480" y="4826160"/>
            <a:ext cx="647640" cy="504720"/>
          </a:xfrm>
          <a:prstGeom prst="rightArrow">
            <a:avLst>
              <a:gd name="adj1" fmla="val 50000"/>
              <a:gd name="adj2" fmla="val 32079"/>
            </a:avLst>
          </a:prstGeom>
          <a:gradFill rotWithShape="0">
            <a:gsLst>
              <a:gs pos="0">
                <a:srgbClr val="99ff66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2421000"/>
            <a:ext cx="3241800" cy="1439640"/>
          </a:xfrm>
          <a:prstGeom prst="wedgeRoundRectCallout">
            <a:avLst>
              <a:gd name="adj1" fmla="val -32861"/>
              <a:gd name="adj2" fmla="val 45587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商品特點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光學玩具、底部放有少量色彩鮮艷的紙片、組合千變萬化、實用和藝術價值兼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0920" y="4365720"/>
            <a:ext cx="3241440" cy="1439640"/>
          </a:xfrm>
          <a:prstGeom prst="wedgeRoundRectCallout">
            <a:avLst>
              <a:gd name="adj1" fmla="val -26250"/>
              <a:gd name="adj2" fmla="val -31037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商品特點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傳統祭祀產物、多種口味、象徵平安健康、衍生出各種不同的紀念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10666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說明對象的特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四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202392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掌握說明對象的顯著特徵，才能將它與其他類型相近的事物區別開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2060640"/>
            <a:ext cx="107964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124000" y="2492280"/>
            <a:ext cx="216000" cy="4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2924280"/>
            <a:ext cx="648180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說明對象可分為兩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具體事物，說明事物的狀態、 性質、功能和特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抽象事理，說明事物的本質、事物內部或事物之間內在的聯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0760" y="9460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說明對象的特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四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7920" y="146844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掌握事物的外在特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4360" y="3213000"/>
          <a:ext cx="7704000" cy="2425680"/>
        </p:xfrm>
        <a:graphic>
          <a:graphicData uri="http://schemas.openxmlformats.org/drawingml/2006/table">
            <a:tbl>
              <a:tblPr/>
              <a:tblGrid>
                <a:gridCol w="1726920"/>
                <a:gridCol w="3673440"/>
                <a:gridCol w="230364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</a:t>
                      </a: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　 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c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　　　　  具體做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c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　　    例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bcf2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　感官觀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a2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運用五種感官感受：視覺、聽覺、嗅覺、味覺、觸覺，來說明事物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a2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能直觀地說明事物的外在特點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a2e2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比較類似事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比較說明對象與類似事物之間的差異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能夠凸顯說明對象的獨特之處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647640" y="2060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　　掌握事物的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形狀、味道、顏色、觸感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等，寫作時就能使事物更具體、形象地呈現在讀者的眼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1066680"/>
            <a:ext cx="47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標楷體"/>
              </a:rPr>
              <a:t>課堂活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773360"/>
            <a:ext cx="7199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運用感官觀察的方法，掌握以下事物的外部特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四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9640" y="3213000"/>
            <a:ext cx="1800000" cy="1728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708280"/>
            <a:ext cx="3097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視覺：圓圓的、紅得發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47640" y="3141720"/>
            <a:ext cx="2087640" cy="574560"/>
            <a:chOff x="1547640" y="3141720"/>
            <a:chExt cx="2087640" cy="574560"/>
          </a:xfrm>
        </p:grpSpPr>
        <p:sp>
          <p:nvSpPr>
            <p:cNvPr id="89" name=""/>
            <p:cNvSpPr/>
            <p:nvPr/>
          </p:nvSpPr>
          <p:spPr>
            <a:xfrm>
              <a:off x="1547640" y="3716280"/>
              <a:ext cx="2087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47640" y="3141720"/>
              <a:ext cx="0" cy="57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42920" y="4581360"/>
            <a:ext cx="251928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觸覺：硬的、冰涼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5229360"/>
            <a:ext cx="237672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味覺：爽脆、清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484360" y="4292640"/>
            <a:ext cx="936360" cy="288360"/>
            <a:chOff x="2484360" y="4292640"/>
            <a:chExt cx="936360" cy="288360"/>
          </a:xfrm>
        </p:grpSpPr>
        <p:sp>
          <p:nvSpPr>
            <p:cNvPr id="94" name=""/>
            <p:cNvSpPr/>
            <p:nvPr/>
          </p:nvSpPr>
          <p:spPr>
            <a:xfrm>
              <a:off x="2484360" y="4292640"/>
              <a:ext cx="93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84360" y="4292640"/>
              <a:ext cx="0" cy="288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156360" y="3789360"/>
            <a:ext cx="237636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嗅覺：獨特的果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19640" y="4437000"/>
            <a:ext cx="1657440" cy="790560"/>
            <a:chOff x="5219640" y="4437000"/>
            <a:chExt cx="1657440" cy="790560"/>
          </a:xfrm>
        </p:grpSpPr>
        <p:sp>
          <p:nvSpPr>
            <p:cNvPr id="98" name=""/>
            <p:cNvSpPr/>
            <p:nvPr/>
          </p:nvSpPr>
          <p:spPr>
            <a:xfrm>
              <a:off x="6877080" y="4437000"/>
              <a:ext cx="0" cy="790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219640" y="4437000"/>
              <a:ext cx="16574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427280" y="2924280"/>
            <a:ext cx="2808720" cy="863640"/>
            <a:chOff x="4427280" y="2924280"/>
            <a:chExt cx="2808720" cy="863640"/>
          </a:xfrm>
        </p:grpSpPr>
        <p:sp>
          <p:nvSpPr>
            <p:cNvPr id="101" name=""/>
            <p:cNvSpPr/>
            <p:nvPr/>
          </p:nvSpPr>
          <p:spPr>
            <a:xfrm>
              <a:off x="7236000" y="2924280"/>
              <a:ext cx="0" cy="863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427280" y="2924280"/>
              <a:ext cx="2808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27640" y="2924280"/>
              <a:ext cx="0" cy="36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36960" y="6304680"/>
            <a:ext cx="491040" cy="397080"/>
          </a:xfrm>
          <a:prstGeom prst="flowChartAlternateProcess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106668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說明對象的特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773360"/>
            <a:ext cx="36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歸納事物的內在特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四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6960" y="6304680"/>
            <a:ext cx="491040" cy="397080"/>
          </a:xfrm>
          <a:prstGeom prst="flowChartAlternateProcess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1844640"/>
            <a:ext cx="136836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76360" y="206064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1844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Arial"/>
                <a:ea typeface="標楷體"/>
              </a:rPr>
              <a:t>起補充說明的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265572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　　若未能單憑外觀來掌握說明對象的特徵，便可從</a:t>
            </a:r>
            <a:r>
              <a:rPr b="1" lang="zh-TW" sz="2000" spc="-1" strike="noStrike">
                <a:solidFill>
                  <a:srgbClr val="ff6600"/>
                </a:solidFill>
                <a:latin typeface="Arial"/>
                <a:ea typeface="標楷體"/>
              </a:rPr>
              <a:t>性質、用途、演變、製作過程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等方面，把握說明對象的特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2027160"/>
            <a:ext cx="4572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範文題目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中國的活化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565360"/>
            <a:ext cx="936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328464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6880" y="3645000"/>
            <a:ext cx="38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1.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找出關鍵字詞：活化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1148760" y="416196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6880" y="46530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2.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根據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標楷體"/>
              </a:rPr>
              <a:t>寫作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重點聯想具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內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5640" y="1700280"/>
            <a:ext cx="506520" cy="3816360"/>
          </a:xfrm>
          <a:custGeom>
            <a:avLst/>
            <a:gdLst>
              <a:gd name="textAreaLeft" fmla="*/ 323640 w 506520"/>
              <a:gd name="textAreaRight" fmla="*/ 506520 w 5065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5795"/>
                </a:lnTo>
                <a:cubicBezTo>
                  <a:pt x="10800" y="16695"/>
                  <a:pt x="5400" y="17595"/>
                  <a:pt x="0" y="17595"/>
                </a:cubicBezTo>
                <a:cubicBezTo>
                  <a:pt x="5400" y="17595"/>
                  <a:pt x="10800" y="18495"/>
                  <a:pt x="10800" y="193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題目點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四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1260360"/>
            <a:ext cx="22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配合內文Ｐ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0560" y="1582560"/>
            <a:ext cx="3889080" cy="42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主要的說明對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標楷體"/>
              </a:rPr>
              <a:t>動物？植物？細菌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最顯著的特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標楷體"/>
              </a:rPr>
              <a:t>歷史悠久？血統純正？罕見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外在特徵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標楷體"/>
              </a:rPr>
              <a:t>體態？毛色？品相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內在特質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進化情況？生活習性？生理特點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Verdana"/>
                <a:ea typeface="新細明體"/>
              </a:rPr>
              <a:t>現時的生存情況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  <a:ea typeface="標楷體"/>
              </a:rPr>
              <a:t>安全？面臨威脅？備受保護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031840"/>
            <a:ext cx="4572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新細明體"/>
              </a:rPr>
              <a:t>範文題目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我的理想家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2593440"/>
            <a:ext cx="1350720" cy="52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MS P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93720" y="32130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6880" y="3573360"/>
            <a:ext cx="39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找出關鍵字詞：理想家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1546200" y="40435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6880" y="450864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根據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標楷體"/>
              </a:rPr>
              <a:t>寫作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重點聯想具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內容（請填充完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066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題目點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四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一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04960" y="1247760"/>
            <a:ext cx="22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配合內文Ｐ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137120" y="1557360"/>
            <a:ext cx="4060800" cy="4496760"/>
            <a:chOff x="4137120" y="1557360"/>
            <a:chExt cx="4060800" cy="4496760"/>
          </a:xfrm>
        </p:grpSpPr>
        <p:sp>
          <p:nvSpPr>
            <p:cNvPr id="137" name=""/>
            <p:cNvSpPr/>
            <p:nvPr/>
          </p:nvSpPr>
          <p:spPr>
            <a:xfrm>
              <a:off x="4691160" y="3960720"/>
              <a:ext cx="350496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Verdana"/>
                  <a:ea typeface="標楷體"/>
                </a:rPr>
                <a:t>擺設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137120" y="1557360"/>
              <a:ext cx="4060800" cy="4496760"/>
              <a:chOff x="4137120" y="1557360"/>
              <a:chExt cx="4060800" cy="4496760"/>
            </a:xfrm>
          </p:grpSpPr>
          <p:sp>
            <p:nvSpPr>
              <p:cNvPr id="139" name=""/>
              <p:cNvSpPr/>
              <p:nvPr/>
            </p:nvSpPr>
            <p:spPr>
              <a:xfrm>
                <a:off x="4137120" y="1700280"/>
                <a:ext cx="457200" cy="3987720"/>
              </a:xfrm>
              <a:custGeom>
                <a:avLst/>
                <a:gdLst>
                  <a:gd name="textAreaLeft" fmla="*/ 292320 w 457200"/>
                  <a:gd name="textAreaRight" fmla="*/ 457560 w 457200"/>
                  <a:gd name="textAreaTop" fmla="*/ 103680 h 3987720"/>
                  <a:gd name="textAreaBottom" fmla="*/ 3884040 h 398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4770"/>
                    </a:lnTo>
                    <a:cubicBezTo>
                      <a:pt x="10800" y="15670"/>
                      <a:pt x="5400" y="16570"/>
                      <a:pt x="0" y="16570"/>
                    </a:cubicBezTo>
                    <a:cubicBezTo>
                      <a:pt x="5400" y="16570"/>
                      <a:pt x="10800" y="17470"/>
                      <a:pt x="10800" y="1837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65520" y="2333520"/>
                <a:ext cx="350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Verdana"/>
                    <a:ea typeface="新細明體"/>
                  </a:rPr>
                  <a:t>說明的順序：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692600" y="3500280"/>
                <a:ext cx="350532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Verdana"/>
                    <a:ea typeface="標楷體"/>
                  </a:rPr>
                  <a:t>形狀</a:t>
                </a:r>
                <a:r>
                  <a:rPr b="1" lang="zh-TW" sz="1600" spc="-1" strike="noStrike">
                    <a:solidFill>
                      <a:srgbClr val="000000"/>
                    </a:solidFill>
                    <a:latin typeface="Verdana"/>
                    <a:ea typeface="新細明體"/>
                  </a:rPr>
                  <a:t>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19680" y="30686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23040" y="3817800"/>
                <a:ext cx="274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84600" y="1557360"/>
                <a:ext cx="350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Verdana"/>
                    <a:ea typeface="新細明體"/>
                  </a:rPr>
                  <a:t>整體印象：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800600" y="22892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584600" y="3103560"/>
                <a:ext cx="287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Verdana"/>
                    <a:ea typeface="新細明體"/>
                  </a:rPr>
                  <a:t>外部特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87920" y="4417920"/>
                <a:ext cx="3505320" cy="6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Verdana"/>
                    <a:ea typeface="標楷體"/>
                  </a:rPr>
                  <a:t>位置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35640" y="4282920"/>
                <a:ext cx="274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35640" y="4727520"/>
                <a:ext cx="274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584600" y="4903920"/>
                <a:ext cx="287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Verdana"/>
                    <a:ea typeface="新細明體"/>
                  </a:rPr>
                  <a:t>內部特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716360" y="5383080"/>
                <a:ext cx="2448000" cy="6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Verdana"/>
                    <a:ea typeface="標楷體"/>
                  </a:rPr>
                  <a:t>功能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435640" y="5695920"/>
                <a:ext cx="274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336960" y="6304680"/>
            <a:ext cx="491040" cy="397080"/>
          </a:xfrm>
          <a:prstGeom prst="flowChartAlternateProcess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5680" y="98280"/>
            <a:ext cx="47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  <a:ea typeface="新細明體"/>
              </a:rPr>
              <a:t>課室初中作文（中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21440" y="18900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單元四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第</a:t>
            </a: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066680"/>
            <a:ext cx="31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說明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306864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說明的方法，是指運用適切的語言將事物的情況恰當地表達出來的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1916280"/>
            <a:ext cx="33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5050"/>
                </a:solidFill>
                <a:latin typeface="Arial"/>
                <a:ea typeface="標楷體"/>
              </a:rPr>
              <a:t>說明文的語言要求是簡明易懂而且具有科學性、嚴謹性和準確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87640" y="3068640"/>
            <a:ext cx="136836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850920" y="2708280"/>
            <a:ext cx="57636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00:59:07Z</dcterms:created>
  <dc:creator>ocean.chan</dc:creator>
  <dc:description/>
  <dc:language>en-US</dc:language>
  <cp:lastModifiedBy>Woo Kwun Tung</cp:lastModifiedBy>
  <dcterms:modified xsi:type="dcterms:W3CDTF">2013-11-04T04:15:36Z</dcterms:modified>
  <cp:revision>609</cp:revision>
  <dc:subject/>
  <dc:title>投影片 1</dc:title>
</cp:coreProperties>
</file>