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D47-67AD-4FBB-ACA6-4793A3D32B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一張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利用單元頁的圖片，引入學習重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50B-832A-41FF-BC4E-8099CC4A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B13-4686-4FDC-8C93-070C2567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7C1-5DD9-41C1-99EA-0E64ABF2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BAE-4AE6-496B-9F97-3136209A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C90-4147-4CA4-95A4-779CA1C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E2F-DDC6-4DDB-A2C9-C2624F78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192-E53A-419E-9434-178E288C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1D4-4ED6-455D-A4C2-AEFE5B0A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6F8-6854-4B36-9EEC-06AC325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0F2-244D-491B-82A3-3F2F3B7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785-8170-44D1-9780-7D53348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73A-FEBE-4248-9911-9E7CD1A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4A2D-6129-44A9-9297-63E78BEC1B4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圖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115920"/>
            <a:ext cx="17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69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第一課：直接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7">
            <a:hlinkClick r:id="rId1" action="ppaction://hlinksldjump"/>
          </p:cNvPr>
          <p:cNvSpPr/>
          <p:nvPr/>
        </p:nvSpPr>
        <p:spPr>
          <a:xfrm>
            <a:off x="836640" y="1700280"/>
            <a:ext cx="300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直接表明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7"/>
          <p:cNvSpPr/>
          <p:nvPr/>
        </p:nvSpPr>
        <p:spPr>
          <a:xfrm>
            <a:off x="826920" y="4149720"/>
            <a:ext cx="36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敍中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579840"/>
            <a:ext cx="410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課：敍事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7"/>
          <p:cNvSpPr/>
          <p:nvPr/>
        </p:nvSpPr>
        <p:spPr>
          <a:xfrm>
            <a:off x="822240" y="2276640"/>
            <a:ext cx="30006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聯想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7"/>
          <p:cNvSpPr/>
          <p:nvPr/>
        </p:nvSpPr>
        <p:spPr>
          <a:xfrm>
            <a:off x="826920" y="2852640"/>
            <a:ext cx="3000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角色代入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7"/>
          <p:cNvSpPr/>
          <p:nvPr/>
        </p:nvSpPr>
        <p:spPr>
          <a:xfrm>
            <a:off x="826920" y="4653000"/>
            <a:ext cx="36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情帶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826920" y="5157720"/>
            <a:ext cx="36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抒情文字的表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02716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最可愛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532240"/>
            <a:ext cx="6476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328464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6880" y="3645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找出關鍵字詞：可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1148760" y="41619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6880" y="4653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843200"/>
            <a:ext cx="576000" cy="3817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99360 h 3817800"/>
              <a:gd name="textAreaBottom" fmla="*/ 3718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797"/>
                </a:lnTo>
                <a:cubicBezTo>
                  <a:pt x="10800" y="16697"/>
                  <a:pt x="5400" y="17597"/>
                  <a:pt x="0" y="17597"/>
                </a:cubicBezTo>
                <a:cubicBezTo>
                  <a:pt x="5400" y="17597"/>
                  <a:pt x="10800" y="18497"/>
                  <a:pt x="10800" y="1939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5080" y="1692360"/>
            <a:ext cx="38098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人物的身份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同學？家人？朋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能體現人物可愛的因素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外貌？品質？行為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所要表達的情感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佩服？喜愛？感恩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表達情感時，可通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他人的評價？作者的感慨？不同人物行為之間的對比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1197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91628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      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賞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89240" y="2522520"/>
            <a:ext cx="72072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76440" y="3112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840" y="3473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找出關鍵字詞：賞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46200" y="4043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450864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內容（請填充完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37120" y="2060640"/>
            <a:ext cx="457200" cy="3627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94320 h 3627360"/>
              <a:gd name="textAreaBottom" fmla="*/ 3533040 h 36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201"/>
                </a:lnTo>
                <a:cubicBezTo>
                  <a:pt x="10800" y="16101"/>
                  <a:pt x="5400" y="17001"/>
                  <a:pt x="0" y="17001"/>
                </a:cubicBezTo>
                <a:cubicBezTo>
                  <a:pt x="5400" y="17001"/>
                  <a:pt x="10800" y="17901"/>
                  <a:pt x="10800" y="1880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3860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由不同的月亮型態可以聯想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22920" y="2637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19680" y="3645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18446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對月亮的偏好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749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月亮的型態變化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4632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48466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抒發感情時，可用的修辭手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661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1197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6960" y="623340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敍事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28464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敍事抒情，即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通過敍事間接地抒發感情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常用於抒發細膩、內斂的感情。常見的敍事抒情方式包括「敍中生情」和「以情帶敍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846440"/>
            <a:ext cx="280836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間接抒情的一種方式，作者的情感往往曲折地蕴藏在敍事當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3313080"/>
            <a:ext cx="100800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3314880"/>
            <a:ext cx="576360" cy="35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35280" y="2852640"/>
            <a:ext cx="57600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19280" y="2781360"/>
            <a:ext cx="108108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1773360"/>
            <a:ext cx="345600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敍事只是抒發情感的渠道，所以只需抓住重點情節進行描述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敍事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62864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敍中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2205000"/>
            <a:ext cx="539892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寫作抒情文時，敍事是為抒發情感而服務，因而應將文章的重點放在抒情的環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0360" y="2924280"/>
            <a:ext cx="93672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640" y="32148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敍中生情，即通過所敍述事件的細節來抒發感情。敍述事情時，不但要清楚交代時、地、人、事等記敍要素，還要重點敍述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最能觸動人心的事件細節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以此抒發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4616280"/>
            <a:ext cx="52563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敍述重點細節時，應適當地加入個人感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651640" y="3933360"/>
            <a:ext cx="208908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357336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3860640"/>
            <a:ext cx="1079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4149720"/>
            <a:ext cx="180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104940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700280"/>
            <a:ext cx="842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閱讀魯迅的《一件小事》，分析其中的抒情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2852640"/>
            <a:ext cx="86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賞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500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一件小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3487680"/>
            <a:ext cx="577800" cy="446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933720"/>
            <a:ext cx="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4451400"/>
            <a:ext cx="1728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個老女人摔倒在路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5229360"/>
            <a:ext cx="792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車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3824280"/>
            <a:ext cx="2879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我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4005360"/>
            <a:ext cx="2232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表達「我」對車夫的敬佩，同時也對自己的行為感到羞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2340000"/>
            <a:ext cx="288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魯迅《一件小事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2373480"/>
            <a:ext cx="412920" cy="334800"/>
          </a:xfrm>
          <a:custGeom>
            <a:avLst/>
            <a:gdLst>
              <a:gd name="textAreaLeft" fmla="*/ 21600 w 412920"/>
              <a:gd name="textAreaRight" fmla="*/ 391320 w 41292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26635" h="21600">
                <a:moveTo>
                  <a:pt x="0" y="0"/>
                </a:moveTo>
                <a:lnTo>
                  <a:pt x="26635" y="0"/>
                </a:lnTo>
                <a:lnTo>
                  <a:pt x="26635" y="21600"/>
                </a:lnTo>
                <a:lnTo>
                  <a:pt x="0" y="21600"/>
                </a:lnTo>
                <a:close/>
              </a:path>
              <a:path fill="lightenLess" w="26635" h="21600">
                <a:moveTo>
                  <a:pt x="0" y="0"/>
                </a:moveTo>
                <a:lnTo>
                  <a:pt x="26635" y="0"/>
                </a:lnTo>
                <a:lnTo>
                  <a:pt x="25235" y="1400"/>
                </a:lnTo>
                <a:lnTo>
                  <a:pt x="1400" y="1400"/>
                </a:lnTo>
                <a:close/>
              </a:path>
              <a:path fill="darken" w="26635" h="21600">
                <a:moveTo>
                  <a:pt x="26635" y="0"/>
                </a:moveTo>
                <a:lnTo>
                  <a:pt x="26635" y="21600"/>
                </a:lnTo>
                <a:lnTo>
                  <a:pt x="25235" y="20200"/>
                </a:lnTo>
                <a:lnTo>
                  <a:pt x="25235" y="1400"/>
                </a:lnTo>
                <a:close/>
              </a:path>
              <a:path fill="darkenLess" w="26635" h="21600">
                <a:moveTo>
                  <a:pt x="2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5" y="20200"/>
                </a:lnTo>
                <a:close/>
              </a:path>
              <a:path fill="lighten" w="2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5" h="21600">
                <a:moveTo>
                  <a:pt x="1331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635" h="21600">
                <a:moveTo>
                  <a:pt x="1331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635" h="21600">
                <a:moveTo>
                  <a:pt x="10741" y="8224"/>
                </a:moveTo>
                <a:lnTo>
                  <a:pt x="14605" y="8224"/>
                </a:lnTo>
                <a:lnTo>
                  <a:pt x="14605" y="15221"/>
                </a:lnTo>
                <a:lnTo>
                  <a:pt x="15894" y="15221"/>
                </a:lnTo>
                <a:lnTo>
                  <a:pt x="15894" y="16144"/>
                </a:lnTo>
                <a:lnTo>
                  <a:pt x="10741" y="16144"/>
                </a:lnTo>
                <a:lnTo>
                  <a:pt x="10741" y="15221"/>
                </a:lnTo>
                <a:lnTo>
                  <a:pt x="12029" y="15221"/>
                </a:lnTo>
                <a:lnTo>
                  <a:pt x="12029" y="9129"/>
                </a:lnTo>
                <a:lnTo>
                  <a:pt x="10741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720" y="404352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3080" y="3645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視若無睹，想不了了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11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勇於承擔責任，正直善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544500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84360" y="4005000"/>
            <a:ext cx="647640" cy="1440000"/>
            <a:chOff x="2484360" y="4005000"/>
            <a:chExt cx="647640" cy="1440000"/>
          </a:xfrm>
        </p:grpSpPr>
        <p:sp>
          <p:nvSpPr>
            <p:cNvPr id="216" name=""/>
            <p:cNvSpPr/>
            <p:nvPr/>
          </p:nvSpPr>
          <p:spPr>
            <a:xfrm>
              <a:off x="2484360" y="4797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71640" y="4005360"/>
              <a:ext cx="0" cy="143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771640" y="4005000"/>
              <a:ext cx="360360" cy="1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66960" y="5440320"/>
              <a:ext cx="365040" cy="4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932360" y="4321080"/>
            <a:ext cx="0" cy="719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32360" y="467208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560" y="423396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Arial"/>
                <a:ea typeface="標楷體"/>
              </a:rPr>
              <a:t>對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Arial"/>
                <a:ea typeface="標楷體"/>
              </a:rPr>
              <a:t>得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10666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1773360"/>
            <a:ext cx="842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與大家一起分享生活中的一件小事，並抒發箇中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4280" y="270828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一件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2880" y="2708280"/>
            <a:ext cx="70668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681360"/>
            <a:ext cx="273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餐廳內，中年男子在非吸煙區一邊吸煙一邊看報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80000" y="3645000"/>
            <a:ext cx="31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批評社會上的某些人公德心缺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4653000"/>
            <a:ext cx="302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其他顧客紛紛勸阻，但該男子置之不理，還惡言相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32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869000"/>
            <a:ext cx="72072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84720" y="4653000"/>
            <a:ext cx="64800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6960" y="623340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以情帶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敍事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3068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用感情來帶動敍事，即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先概括個人感情</a:t>
            </a:r>
            <a:r>
              <a:rPr b="0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再選取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最有代表性的片段、場景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來抒發感情。注意所選取的內容必須有助於表達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1700280"/>
            <a:ext cx="453564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除了喜、怒、哀、樂外，還可以是懷念、惋惜、敬佩、尊重等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3440" y="3141720"/>
            <a:ext cx="10782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2492280"/>
            <a:ext cx="50508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4363920"/>
            <a:ext cx="4535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所選取的內容，須體現出人物或事物的某種特質，從而與文章所表達的主要情感相互呼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581800" y="3789360"/>
            <a:ext cx="14256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716280"/>
            <a:ext cx="432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6960" y="623340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1773360"/>
            <a:ext cx="26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抒情文字的表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敍事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1773360"/>
            <a:ext cx="2232000" cy="57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00360" y="206064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1700280"/>
            <a:ext cx="5399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將感情融入文字的表達當中，使讀者在理解的過程中能體會作者的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2120" y="2924280"/>
            <a:ext cx="81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抽象的情感難以表達，除了可以運用「直接抒情」、「敍事抒情」的手法外，還可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運用適當的語言技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幫助強化情感的表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抒情文字的表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敍事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1120" y="2421000"/>
            <a:ext cx="34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善用修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50920" y="342900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寫作抒情文時，可運用多種修辭手法，幫助抒發感情，如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疊字、比喻、比擬、誇張、襯托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等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2133720"/>
            <a:ext cx="359892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運用修辭手法可使抽象的情感變得生動真實，而且能讓文章變得更富表現力和感染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84720" y="3489480"/>
            <a:ext cx="1511280" cy="280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4284360" y="3141720"/>
            <a:ext cx="86364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228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抒情文字的表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敍事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1120" y="2421000"/>
            <a:ext cx="34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善用不同的句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30780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善用多變而靈活的句式，如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疑問句、反問句、感歎句、排比句、祈使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等，有助抒發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20720" y="3124080"/>
            <a:ext cx="2590920" cy="304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3059280" y="3500280"/>
            <a:ext cx="288720" cy="433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43280" y="4005360"/>
            <a:ext cx="359892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運用不同的句式可以使文章富節奏感，同時也有利於感情的表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798640"/>
            <a:ext cx="78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直接抒情，即作者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直接抒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個人的思想感情。感情的種類多樣，大致可分為喜、怒、哀、樂四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直接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2852640"/>
            <a:ext cx="1081080" cy="304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92360" y="2565360"/>
            <a:ext cx="287280" cy="262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1844640"/>
            <a:ext cx="532764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又稱直抒胸</a:t>
            </a:r>
            <a:r>
              <a:rPr b="0" lang="zh-TW" sz="2000" spc="-1" strike="noStrike">
                <a:solidFill>
                  <a:srgbClr val="ff5050"/>
                </a:solidFill>
                <a:latin typeface="標楷體"/>
                <a:ea typeface="標楷體"/>
              </a:rPr>
              <a:t>臆，這種抒情方式坦率地表達真情實感，感染力很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5960" y="2852640"/>
            <a:ext cx="1058760" cy="304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76720" y="3212640"/>
            <a:ext cx="43200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537000"/>
            <a:ext cx="5040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一般用以抒發強烈而且直白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111320"/>
            <a:ext cx="158436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79640" y="1341360"/>
            <a:ext cx="649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0040" y="1125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使感情顯得坦率真摯、質樸誠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02716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受委屈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44720" y="256536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28464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6880" y="3645000"/>
            <a:ext cx="39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找出關鍵字詞：委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148760" y="41619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6880" y="4653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37120" y="1341360"/>
            <a:ext cx="506160" cy="4248360"/>
          </a:xfrm>
          <a:custGeom>
            <a:avLst/>
            <a:gdLst>
              <a:gd name="textAreaLeft" fmla="*/ 323280 w 506160"/>
              <a:gd name="textAreaRight" fmla="*/ 506520 w 5061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3280" y="1125360"/>
            <a:ext cx="381024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章主要表達的情感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敬佩？抱打不平？難過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文章的抒情手法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敍中生情？以情帶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選用事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被誤會？被誣蔑？受責備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記敍採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第一人稱？第二人稱？第三人稱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能體現人物特質的細節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表情？語氣？神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1197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203184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      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踏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2637000"/>
            <a:ext cx="79200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93720" y="32130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3573360"/>
            <a:ext cx="44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找出關鍵字詞：踏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1546200" y="4043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50864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內容（請填充完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37120" y="1268280"/>
            <a:ext cx="457200" cy="4419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112536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文章所要表達的情感：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Verdana"/>
                <a:ea typeface="標楷體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70280" y="20955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抒發情感的方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70280" y="3032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選用的事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8680" y="4832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能體現人物特質的細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3895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事件的主要人物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16360" y="198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285264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88000" y="4724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22920" y="5661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16360" y="378936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1197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0666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773360"/>
            <a:ext cx="842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體會文段所表達的情感，並用適當的語調進行朗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70828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8450"/>
                </a:moveTo>
                <a:lnTo>
                  <a:pt x="8224" y="8450"/>
                </a:lnTo>
                <a:lnTo>
                  <a:pt x="12645" y="3837"/>
                </a:lnTo>
                <a:lnTo>
                  <a:pt x="12645" y="17850"/>
                </a:lnTo>
                <a:lnTo>
                  <a:pt x="8224" y="13237"/>
                </a:lnTo>
                <a:lnTo>
                  <a:pt x="3794" y="13237"/>
                </a:lnTo>
                <a:close/>
              </a:path>
              <a:path fill="darken" w="21600" h="21687">
                <a:moveTo>
                  <a:pt x="14299" y="10843"/>
                </a:moveTo>
                <a:lnTo>
                  <a:pt x="17806" y="10843"/>
                </a:lnTo>
              </a:path>
              <a:path fill="darken" w="21600" h="21687">
                <a:moveTo>
                  <a:pt x="14299" y="8450"/>
                </a:moveTo>
                <a:lnTo>
                  <a:pt x="17806" y="5682"/>
                </a:lnTo>
              </a:path>
              <a:path fill="darken" w="21600" h="21687">
                <a:moveTo>
                  <a:pt x="14299" y="13237"/>
                </a:moveTo>
                <a:lnTo>
                  <a:pt x="17806" y="16005"/>
                </a:ln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360" y="267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洪醒夫《紙船印象》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573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8450"/>
                </a:moveTo>
                <a:lnTo>
                  <a:pt x="8224" y="8450"/>
                </a:lnTo>
                <a:lnTo>
                  <a:pt x="12645" y="3837"/>
                </a:lnTo>
                <a:lnTo>
                  <a:pt x="12645" y="17850"/>
                </a:lnTo>
                <a:lnTo>
                  <a:pt x="8224" y="13237"/>
                </a:lnTo>
                <a:lnTo>
                  <a:pt x="3794" y="13237"/>
                </a:lnTo>
                <a:close/>
              </a:path>
              <a:path fill="darken" w="21600" h="21687">
                <a:moveTo>
                  <a:pt x="14299" y="10843"/>
                </a:moveTo>
                <a:lnTo>
                  <a:pt x="17806" y="10843"/>
                </a:lnTo>
              </a:path>
              <a:path fill="darken" w="21600" h="21687">
                <a:moveTo>
                  <a:pt x="14299" y="8450"/>
                </a:moveTo>
                <a:lnTo>
                  <a:pt x="17806" y="5682"/>
                </a:lnTo>
              </a:path>
              <a:path fill="darken" w="21600" h="21687">
                <a:moveTo>
                  <a:pt x="14299" y="13237"/>
                </a:moveTo>
                <a:lnTo>
                  <a:pt x="17806" y="16005"/>
                </a:ln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35352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杏林子《生命掠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生命的詮釋者》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443700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8450"/>
                </a:moveTo>
                <a:lnTo>
                  <a:pt x="8224" y="8450"/>
                </a:lnTo>
                <a:lnTo>
                  <a:pt x="12645" y="3837"/>
                </a:lnTo>
                <a:lnTo>
                  <a:pt x="12645" y="17850"/>
                </a:lnTo>
                <a:lnTo>
                  <a:pt x="8224" y="13237"/>
                </a:lnTo>
                <a:lnTo>
                  <a:pt x="3794" y="13237"/>
                </a:lnTo>
                <a:close/>
              </a:path>
              <a:path fill="darken" w="21600" h="21687">
                <a:moveTo>
                  <a:pt x="14299" y="10843"/>
                </a:moveTo>
                <a:lnTo>
                  <a:pt x="17806" y="10843"/>
                </a:lnTo>
              </a:path>
              <a:path fill="darken" w="21600" h="21687">
                <a:moveTo>
                  <a:pt x="14299" y="8450"/>
                </a:moveTo>
                <a:lnTo>
                  <a:pt x="17806" y="5682"/>
                </a:lnTo>
              </a:path>
              <a:path fill="darken" w="21600" h="21687">
                <a:moveTo>
                  <a:pt x="14299" y="13237"/>
                </a:moveTo>
                <a:lnTo>
                  <a:pt x="17806" y="16005"/>
                </a:ln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43988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舍《怒》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直接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0960" y="1773360"/>
            <a:ext cx="34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直接表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336960" y="623340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15960" y="3213000"/>
            <a:ext cx="248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即把內心深處的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真實情感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不加修飾地表達出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328464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292428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276640"/>
            <a:ext cx="5184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即不借助任何事物，運用最直白的語言表達人物內心的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0666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844640"/>
            <a:ext cx="842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以《一個好消息》為題，用直白的句子表達自己的感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4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Times New Roman"/>
                <a:ea typeface="標楷體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2997360"/>
            <a:ext cx="936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Arial"/>
                <a:ea typeface="標楷體"/>
              </a:rPr>
              <a:t>高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3933720"/>
            <a:ext cx="93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Arial"/>
                <a:ea typeface="標楷體"/>
              </a:rPr>
              <a:t>興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869000"/>
            <a:ext cx="9367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Arial"/>
                <a:ea typeface="標楷體"/>
              </a:rPr>
              <a:t>意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0560" y="321300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0560" y="417528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0560" y="51451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2997360"/>
            <a:ext cx="504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5050"/>
                </a:solidFill>
                <a:latin typeface="標楷體"/>
                <a:ea typeface="標楷體"/>
              </a:rPr>
              <a:t>哈哈！這個消息真讓人欣喜若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4869000"/>
            <a:ext cx="4824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5050"/>
                </a:solidFill>
                <a:latin typeface="標楷體"/>
                <a:ea typeface="標楷體"/>
              </a:rPr>
              <a:t>這是真的嗎？我實在不敢相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3933720"/>
            <a:ext cx="446400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5050"/>
                </a:solidFill>
                <a:latin typeface="標楷體"/>
                <a:ea typeface="標楷體"/>
              </a:rPr>
              <a:t>這個消息真是太振奮人心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096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聯想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直接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5000" y="292428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透過憶述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過去的經歷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或描繪聯想起的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相關事物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然後直接表達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3716280"/>
            <a:ext cx="662472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可從事物的形狀、顏色、性質等方面着手進行描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924360" y="3284280"/>
            <a:ext cx="287280" cy="43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83160" y="2997360"/>
            <a:ext cx="5029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0666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19440"/>
            <a:ext cx="842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以《雲》為題作聯想，並抒發相應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2997360"/>
            <a:ext cx="1873440" cy="180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4080"/>
            <a:ext cx="2592360" cy="1295640"/>
          </a:xfrm>
          <a:prstGeom prst="wedgeRectCallout">
            <a:avLst>
              <a:gd name="adj1" fmla="val 65064"/>
              <a:gd name="adj2" fmla="val -33212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看！天空上飄着幾朵雲，多麼潔白！這不禁讓我回想起兒時純真的我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567160"/>
            <a:ext cx="31687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聯想：從顏色的潔白聯想到純真的童年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情感：感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656360" y="37537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5013360"/>
            <a:ext cx="345600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聯想：從隨風飄浮想到自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情感：羨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781360"/>
            <a:ext cx="2592360" cy="1366920"/>
          </a:xfrm>
          <a:prstGeom prst="wedgeRectCallout">
            <a:avLst>
              <a:gd name="adj1" fmla="val -70148"/>
              <a:gd name="adj2" fmla="val 13532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真希望自己能化作空中的一朵雲。這樣，我就可以享受自由自在的快樂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841440" y="4401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960" y="623340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512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角色代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直接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46240" y="3032280"/>
            <a:ext cx="32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角色代入，即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代入事件中不同的角色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抒發各種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745080"/>
            <a:ext cx="561672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藉此可以體會不同身分的人在同一狀況下的感受，從而使情感更為具體、真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92360" y="3429000"/>
            <a:ext cx="432000" cy="314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068640"/>
            <a:ext cx="25905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98100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700280"/>
            <a:ext cx="842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以《一節中文課》為題，老師與學生互換角色，抒發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二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0608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情景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老師在講台上講課，台下有兩個同學在竊竊私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494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情景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老師提問問題，但沒有人響應，鴉雀無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46292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1520" y="3344760"/>
            <a:ext cx="792000" cy="503280"/>
          </a:xfrm>
          <a:prstGeom prst="leftRightArrow">
            <a:avLst>
              <a:gd name="adj1" fmla="val 50000"/>
              <a:gd name="adj2" fmla="val 31327"/>
            </a:avLst>
          </a:prstGeom>
          <a:solidFill>
            <a:srgbClr val="99cc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7120" y="2336760"/>
            <a:ext cx="1673280" cy="2305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64120" y="2316240"/>
            <a:ext cx="16765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0:59:07Z</dcterms:created>
  <dc:creator>ocean.chan</dc:creator>
  <dc:description/>
  <dc:language>en-US</dc:language>
  <cp:lastModifiedBy>Woo Kwun Tung</cp:lastModifiedBy>
  <dcterms:modified xsi:type="dcterms:W3CDTF">2013-09-30T07:52:37Z</dcterms:modified>
  <cp:revision>596</cp:revision>
  <dc:subject/>
  <dc:title>投影片 1</dc:title>
</cp:coreProperties>
</file>